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69C0-A283-470C-B83A-5AD32116B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932E-ABC1-402D-8430-8B9ED24910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3902A-CD24-4A5E-9E4F-615B78E0A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B9572-CD50-4E0B-99F0-63BAE1A25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7B6FF-76B3-4AAA-8AD9-359996212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AE801-8F7C-4AF5-A3B6-79EAE8D40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7B54F-7C96-4409-91A9-0DA2E3031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61F68-1718-433A-AE01-4933E86C1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BCA9A-A7EE-4229-B90F-80491E1FB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19676-1D7D-4A35-BF4E-42BF5D292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CF252-0789-4DDF-A14A-F9780187F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BDE0A-D9A5-46F6-AAE3-7EFD871E0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9E5D7-1F40-4D77-827D-982A8266F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8643D-7CBF-4AEF-9D26-05D643EE1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BFED-F10F-472F-AAE1-83695F8BE31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WER BILLING SYSTEMS</a:t>
            </a: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solidFill>
            <a:srgbClr val="ffffff"/>
          </a:solidFill>
          <a:ln w="25560">
            <a:solidFill>
              <a:srgbClr val="0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	</a:t>
            </a:r>
            <a:r>
              <a:rPr b="0" lang="en-US" sz="3200" spc="-1" strike="noStrike">
                <a:solidFill>
                  <a:srgbClr val="c00000"/>
                </a:solidFill>
                <a:latin typeface="Calibri"/>
              </a:rPr>
              <a:t>WEB BASED APPLICATION</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ASS DIAGRAM</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 </a:t>
            </a:r>
            <a:r>
              <a:rPr b="1" lang="en-US" sz="3000" spc="-1" strike="noStrike">
                <a:solidFill>
                  <a:srgbClr val="ffffff"/>
                </a:solidFill>
                <a:latin typeface="Calibri"/>
              </a:rPr>
              <a:t>CLASS DIAGRAM:</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          </a:t>
            </a:r>
            <a:r>
              <a:rPr b="1" lang="en-US" sz="3000" spc="-1" strike="noStrike">
                <a:solidFill>
                  <a:srgbClr val="ffffff"/>
                </a:solidFill>
                <a:latin typeface="Calibri"/>
              </a:rPr>
              <a:t>Class diagrams are used to model the static aspect of the system.it involves modeling vocabulary of the system.it shows set of classes,interfaces and relationships.class diagrams are important for visualizing,specifying&amp;documenting the structural models but also important for constructing executable systems through Forward Engineering.</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ecase diagram</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Use Case Diagram:</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ccording to Jacobson the definition of use case is “a sequence of transactions in a system whose task is to yield results of measurable value to an individual actor of the system”.</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following are the steps for finding the use case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For each actor, find the tasks and functions that the actor should be able to perform or that the system needs the actor to perform. The use case should represent a course of events that leads to a clear goal.</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Name the use case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escribe the use cases briefly by applying terms with which the user is familiar. This makes the description less ambiguou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AGRAM</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2" name="Object 2" descr=""/>
          <p:cNvPicPr/>
          <p:nvPr/>
        </p:nvPicPr>
        <p:blipFill>
          <a:blip r:embed="rId1"/>
          <a:stretch/>
        </p:blipFill>
        <p:spPr>
          <a:xfrm>
            <a:off x="1143000" y="1676520"/>
            <a:ext cx="7162920" cy="496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81000"/>
          </a:bodyPr>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Energy Billing System is an Executive Information System that could be used foe entering,calculating and monitoring the billing details of the Electricity consumers</a:t>
            </a:r>
            <a:endParaRPr b="0" lang="en-US" sz="2000" spc="-1" strike="noStrike">
              <a:solidFill>
                <a:srgbClr val="ffffff"/>
              </a:solidFill>
              <a:latin typeface="Calibri"/>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t provides Environment to maintains the consumer details starting from getting new </a:t>
            </a:r>
            <a:r>
              <a:rPr b="0" lang="en-US" sz="2300" spc="-1" strike="noStrike">
                <a:solidFill>
                  <a:srgbClr val="ffffff"/>
                </a:solidFill>
                <a:latin typeface="Calibri"/>
              </a:rPr>
              <a:t>connection</a:t>
            </a:r>
            <a:r>
              <a:rPr b="0" lang="en-US" sz="2000" spc="-1" strike="noStrike">
                <a:solidFill>
                  <a:srgbClr val="ffffff"/>
                </a:solidFill>
                <a:latin typeface="Calibri"/>
              </a:rPr>
              <a:t> ,receiving bill,payments etc., and performance information to the management</a:t>
            </a:r>
            <a:endParaRPr b="0" lang="en-US" sz="2000" spc="-1" strike="noStrike">
              <a:solidFill>
                <a:srgbClr val="ffffff"/>
              </a:solidFill>
              <a:latin typeface="Calibri"/>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t would be an Intranet and Internet based software solution</a:t>
            </a:r>
            <a:endParaRPr b="0" lang="en-US" sz="2000" spc="-1" strike="noStrike">
              <a:solidFill>
                <a:srgbClr val="ffffff"/>
              </a:solidFill>
              <a:latin typeface="Calibri"/>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following are the activities going at all the ERO</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gistration of new service connections</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ploading and downloading of the metering data, which was done by Spot Billing Machine</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ffline connections ,RJ and changes information is entering</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aking  daily collections reports</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ill processing, D-List processing and Ledger Processing</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enerating Monthly Reports</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ceive collection data from external agencies</a:t>
            </a:r>
            <a:endParaRPr b="0" lang="en-US" sz="2000" spc="-1" strike="noStrike">
              <a:solidFill>
                <a:srgbClr val="ffffff"/>
              </a:solidFill>
              <a:latin typeface="Calibri"/>
            </a:endParaRPr>
          </a:p>
          <a:p>
            <a:pPr lvl="1" marL="740520" indent="-4165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RGANIZATOIN PROFILE</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PCPDCL is a licensee under section 15 of the AP Electricity Reform Act,1998 entrusted with the responsibility of the distribution of electricity to 4.5 million consumers spread over seven districts including the twin cities of secundrabad and Hyderabad</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central power Distribution company with an Authorized capital of Rs.655 </a:t>
            </a:r>
            <a:r>
              <a:rPr b="0" lang="en-US" sz="2300" spc="-1" strike="noStrike">
                <a:solidFill>
                  <a:srgbClr val="ffffff"/>
                </a:solidFill>
                <a:latin typeface="Calibri"/>
              </a:rPr>
              <a:t>crores</a:t>
            </a:r>
            <a:r>
              <a:rPr b="0" lang="en-US" sz="2000" spc="-1" strike="noStrike">
                <a:solidFill>
                  <a:srgbClr val="ffffff"/>
                </a:solidFill>
                <a:latin typeface="Calibri"/>
              </a:rPr>
              <a:t> is engaged in the business of supply and distribution  of electricity,purchasing,selling,importing,exporting,wheeling and trading of electrical and other related activities</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APCPDCL is committed to quality supply and correct meter reading . Under this direction,it has introduced the Spot Billing System.</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PCPDCL has also plan to launch similar consumer care centers in 24 more areas with in the twin cities shortly, and in all districts with in its purview</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main aim of the scheme is to provide better,quicker and more responsive and responsible services to its consumers</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APCPDCL now also provides exclusive help lines to consumers of the twin cities and RANGA REDDY District to redress their mpower problem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OVERVIEW</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Energy Billing System:</a:t>
            </a:r>
            <a:endParaRPr b="0" lang="en-US" sz="2500" spc="-1" strike="noStrike">
              <a:solidFill>
                <a:srgbClr val="ffffff"/>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100" spc="-1" strike="noStrike">
                <a:solidFill>
                  <a:srgbClr val="ffffff"/>
                </a:solidFill>
                <a:latin typeface="Calibri"/>
              </a:rPr>
              <a:t>Common Billing system is a system to maintain billing details in ERO. It captures the data related to billing and doing manipulations like calculate bill and payments receipts</a:t>
            </a:r>
            <a:endParaRPr b="0" lang="en-US" sz="2100" spc="-1" strike="noStrike">
              <a:solidFill>
                <a:srgbClr val="ffffff"/>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In this we can divide into two modules</a:t>
            </a:r>
            <a:endParaRPr b="0" lang="en-US" sz="2100" spc="-1" strike="noStrike">
              <a:solidFill>
                <a:srgbClr val="ffffff"/>
              </a:solidFill>
              <a:latin typeface="Calibri"/>
            </a:endParaRPr>
          </a:p>
          <a:p>
            <a:pPr lvl="1" marL="857160" indent="-457200">
              <a:lnSpc>
                <a:spcPct val="80000"/>
              </a:lnSpc>
              <a:spcBef>
                <a:spcPts val="524"/>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Consumer Management:</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To design front-end forms according to consumer specifications it was like Addition of new consumer , deletion , modification of consumer , processing bills , journals, debit respectively. These module deals with consumer information details</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2. Revenue Collection</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Billing is done by spot billing machines and updated to billing database. This module deals with collection of payments through collection centers by online or offline each consumer wise.</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odules</a:t>
            </a:r>
            <a:br>
              <a:rPr sz="4000"/>
            </a:br>
            <a:endParaRPr b="0" lang="en-US" sz="4000" spc="-1" strike="noStrike">
              <a:solidFill>
                <a:srgbClr val="ffffff"/>
              </a:solidFill>
              <a:latin typeface="Calibri"/>
            </a:endParaRPr>
          </a:p>
        </p:txBody>
      </p:sp>
      <p:sp>
        <p:nvSpPr>
          <p:cNvPr id="57" name=""/>
          <p:cNvSpPr txBox="1"/>
          <p:nvPr/>
        </p:nvSpPr>
        <p:spPr>
          <a:xfrm>
            <a:off x="457200" y="838080"/>
            <a:ext cx="8229600" cy="5105520"/>
          </a:xfrm>
          <a:prstGeom prst="rect">
            <a:avLst/>
          </a:prstGeom>
          <a:noFill/>
          <a:ln w="0">
            <a:noFill/>
          </a:ln>
        </p:spPr>
        <p:txBody>
          <a:bodyPr anchor="t">
            <a:normAutofit fontScale="60000"/>
          </a:bodyPr>
          <a:p>
            <a:pPr marL="205560" indent="-20556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1.Consumer Management</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1.1 New Consumer Acquisition:</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e proposed software allows the end-user to add the new</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consumer with his personal service(meter and       deposit)detail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1. change Request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2. Consumer Account  Management</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3. Meter  Functionality</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4. Manual input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5. Maintain current data</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6. Metering Exception Reporting</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7. Tracking customer Exception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1.2 Modification of Consumer:</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f any particulars has  modified with consumer details,this  sub module is used to modify the consumer detail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1.3 Deletion of consumer:</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f any consumer disconnect the connection then we have to delete the consumer related information from system</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venue Collection</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line Receip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ffline Receip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ceipt Cance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ournal Ent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ncellation of journa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nge RC Passwor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blem Specification</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56000"/>
          </a:bodyPr>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Existing System:</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n the existing system data  is coming from different platforms</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is is rectified by bringing into single oracle platform</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example:MS.Access,MS.Excel</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Mainly billing is done by PAA’s and ERO’s.this process has to be done by CPDCL so that there is no need of depending on private agencies</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e aim of the feasibility study is to see whether it is possible to develop a system at a reasonable cost .  At the end of feasible study a decision has taken whether to proceed or no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Using several software such as Oracle and java and VB we can do the same project. The company is presently dealing with the Oracle projects. The problem that is going to exist by using D2K is heavy network traffic either in two tier or three tier architecture. Here the cost to develop the project will be less but the reliability will be degraded.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PROPOSED SYSTEM:</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e partial software is developed in java servlets; jsp with the total system is divided into different modules so as to make the client understand it easily with Advanced features of java. </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191880" indent="-191880">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ystem requirements</a:t>
            </a:r>
            <a:br>
              <a:rPr sz="4000"/>
            </a:br>
            <a:endParaRPr b="0" lang="en-US" sz="40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71000"/>
          </a:bodyPr>
          <a:p>
            <a:pPr marL="243360" indent="-24336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oftware specifications:</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Windows NT at server sid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Windows 9X at client end. </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entralized database server_oracle 8. 0</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Java Runtime Engine. </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ODBC administrator</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Java software development kit. </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endParaRPr b="0" lang="en-US" sz="1700" spc="-1" strike="noStrike">
              <a:solidFill>
                <a:srgbClr val="ffffff"/>
              </a:solidFill>
              <a:latin typeface="Calibri"/>
            </a:endParaRPr>
          </a:p>
          <a:p>
            <a:pPr marL="243360" indent="-24336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ardware Specifications:</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This part comprises of selection-required hardware for the system. The minimum general requirement for hardware:</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rocessor speed Pentium or faster processor</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inimum 128 MB of RAM</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36xCDROM Driv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1. 44 MB Floppy Driv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inimum “14 color or B/W Monitor</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ous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101 keys keyboard</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Ethernet card (an interface between system bus and client</a:t>
            </a:r>
            <a:endParaRPr b="0" lang="en-US" sz="1700" spc="-1" strike="noStrike">
              <a:solidFill>
                <a:srgbClr val="ffffff"/>
              </a:solidFill>
              <a:latin typeface="Calibri"/>
            </a:endParaRPr>
          </a:p>
          <a:p>
            <a:pPr lvl="1" marL="527400" indent="-20268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oals and Objectives</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65000"/>
          </a:bodyPr>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nergy Billing system is a system to maintain billing details in ERO. It captures the data related to billing and doing manipulations like calculate bill and payment receipts.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following are the activities going at all the ERO (Electricity Revenue Office).</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 Registration of new service connections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2) Uploading and downloading of the metering data, which was done by Spot billing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Machine.</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3) Off line Collections, RJ s and changes information is entering</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4) Taking daily collections report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5) Other report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Standard reports are not being generating by the PAA (Private Accounting Agency).</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6) Bill Processing, D- List Processing and Ledger Processing</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7) Generating monthly report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8) Receive “Collection data” from external agencie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6:31:31Z</dcterms:created>
  <dc:creator>prathima</dc:creator>
  <dc:description/>
  <dc:language>en-US</dc:language>
  <cp:lastModifiedBy>NARASIMHA</cp:lastModifiedBy>
  <dcterms:modified xsi:type="dcterms:W3CDTF">2010-07-19T06:36:07Z</dcterms:modified>
  <cp:revision>64</cp:revision>
  <dc:subject/>
  <dc:title>ENERGY BILLING SYSTEMS</dc:title>
</cp:coreProperties>
</file>