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0922A-7578-4D80-AE8C-A85BEDC77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20B94-F939-48B9-BF09-B359A822D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D0164-DA58-4BD1-BD67-2249785C4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46807-6B46-4E2E-99BB-051405A4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51AC9-42A0-4F76-8A9F-04B04E6A1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26FC0-187D-4DAA-BCA0-B6B4CF5A6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E628-60A8-4633-83FF-7BADAE231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C5A9E-A747-4AD5-B345-5F85877C0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C2CB8-F451-41C7-A0D0-5730DBC8D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0E381-1E81-42A6-A42E-5AAFE73D7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1D683-5709-40DF-A9D2-9DE169002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D605A-3B9A-4923-9409-309FC7075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42C0D-FDFA-4DB8-81AA-D76A88810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3E975-658D-48D8-A204-EDD2CFEF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C9928-0CE0-4D4C-B94B-AD40810CB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C9D26-FD01-41AA-B0B8-3FF052871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D4BDE-1F85-4C95-A336-95240F690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ACE90-0E5B-40E6-BCCD-6A8797EF2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944A8-F5BE-4EFC-B189-4EB050FDB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16BA9-A032-4CF2-A0F8-B63491F1E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10069-4EC6-4138-BE74-4BBC04D0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2231-CDDB-4F8F-8181-2FCA44E7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DFF3-B4BD-499C-AD76-8BC64599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FFE4-E222-44BC-AFD7-ECB75DBDA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DCC6-7BB6-4618-8D51-44CEF9124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DEA6-B241-474C-B3E6-6EA4520657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4"/>
          <p:cNvSpPr txBox="1"/>
          <p:nvPr/>
        </p:nvSpPr>
        <p:spPr>
          <a:xfrm>
            <a:off x="1371600" y="1981080"/>
            <a:ext cx="70102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cccc">
                    <a:alpha val="50000"/>
                  </a:srgbClr>
                </a:solidFill>
                <a:effectLst>
                  <a:outerShdw dist="40186" dir="1096358" blurRad="0" rotWithShape="0">
                    <a:srgbClr val="9999ff"/>
                  </a:outerShdw>
                </a:effectLst>
                <a:latin typeface="Arial Black"/>
              </a:rPr>
              <a:t>PROJECT OVERVIEW</a:t>
            </a:r>
            <a:endParaRPr b="0" lang="en-US" sz="2400" spc="1" strike="noStrike">
              <a:ln w="12600">
                <a:solidFill>
                  <a:srgbClr val="3333cc"/>
                </a:solidFill>
                <a:miter/>
              </a:ln>
              <a:solidFill>
                <a:srgbClr val="00cccc">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09480" y="457200"/>
            <a:ext cx="8001000" cy="6032880"/>
          </a:xfrm>
          <a:prstGeom prst="rect">
            <a:avLst/>
          </a:prstGeom>
          <a:solidFill>
            <a:srgbClr val="3333ff"/>
          </a:solidFill>
          <a:ln w="0">
            <a:noFill/>
          </a:ln>
        </p:spPr>
        <p:style>
          <a:lnRef idx="0"/>
          <a:fillRef idx="0"/>
          <a:effectRef idx="0"/>
          <a:fontRef idx="minor"/>
        </p:style>
        <p:txBody>
          <a:bodyPr lIns="90000" rIns="90000" tIns="46800" bIns="46800" anchor="t">
            <a:spAutoFit/>
          </a:bodyPr>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Accepting abnormal meter condition Details: </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oftware allows the end user to enter the abnormal meter reader observation details.</a:t>
            </a:r>
            <a:endParaRPr b="0" lang="en-US" sz="2100" spc="-1" strike="noStrike">
              <a:solidFill>
                <a:srgbClr val="ffffff"/>
              </a:solidFill>
              <a:latin typeface="Times New Roman"/>
            </a:endParaRPr>
          </a:p>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eter readers while taking meter reading observe these abnormal meter conditions.</a:t>
            </a:r>
            <a:endParaRPr b="0" lang="en-US" sz="2100" spc="-1" strike="noStrike">
              <a:solidFill>
                <a:srgbClr val="ffffff"/>
              </a:solidFill>
              <a:latin typeface="Times New Roman"/>
            </a:endParaRPr>
          </a:p>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Abnormal meter conditions.</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1.     MRT/TC seals missing.</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2.     Meter Struck up </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3.     Meter Burnt or metering glass broken etc.</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2</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Modification of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f any particulars has modified with consumer details, this sub module is used to modify the consumer details.</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57200" y="533520"/>
            <a:ext cx="8229600" cy="51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3</a:t>
            </a:r>
            <a:r>
              <a:rPr b="1" lang="en-US" sz="12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D</a:t>
            </a:r>
            <a:r>
              <a:rPr b="1" lang="en-US" sz="2100" spc="-1" strike="noStrike">
                <a:solidFill>
                  <a:srgbClr val="ffffff"/>
                </a:solidFill>
                <a:latin typeface="Times New Roman"/>
                <a:ea typeface="Times New Roman"/>
              </a:rPr>
              <a:t>eletion of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f any consumer disconnect the connection then we have to delete the consumer related information from system. This module is used to delete the consumer. Deletion is made is based on some rules like the payment details will be nil.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essage is displayed as do you want to delete the record.  This deleting record is first entered into watch table. Then this record is deleted from Cons table, Bill, Meter part, deposit tab, calculator and PMTTAT tables.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4</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Query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When ever we need to see the details of any particular consumer then this sub module will invoke the details and will display on the screen.</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80880" y="380880"/>
            <a:ext cx="8382240" cy="476784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1.5  Meter Change:</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Every consumer is having meter for reading details. If meter will change then the meter details will be change in database. This sub module is used to update meter details.</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6  Meter part Change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f any changes occurred in meter particulars then this sub module is used to update. The difference between Meter Change and Meterpart Change is when ever Meter will change Meter Change sub module will use and Meter will not Change but Meter Characteristics will change then Meter part sub module will use.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228600" y="380880"/>
            <a:ext cx="8610480" cy="61729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      Revenue Collection :</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1  Online Receipt</a:t>
            </a:r>
            <a:endParaRPr b="0" lang="en-US" sz="2100" spc="-1" strike="noStrike">
              <a:solidFill>
                <a:srgbClr val="ffffff"/>
              </a:solidFill>
              <a:latin typeface="Times New Roman"/>
            </a:endParaRPr>
          </a:p>
          <a:p>
            <a:pPr algn="just">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user to online bill payment receipts. It will provide the entry fields to accept payments. It will show the consumer bill details and based on that we will know the bill details which were belongs to consumer whether consumer is having arrears or not. It is done on the spot when the consumer comes to pay bill. This is used by the persons, who know the RC (Revenue Collection) password.</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2</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Offline Receipt</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user to offline bill payment receipts. It is also same as online receipts, but it is used when consumers will pay the bill at general counters. It will show the consumer bill details and based on that we will know the bill details which were belongs to consumer whether consumer is having arrears or not. It is done after the consumer paid the bills offline. This is used by the persons, who know the RC (Revenue Collection) password.</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57200" y="457200"/>
            <a:ext cx="8305920" cy="5822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3</a:t>
            </a:r>
            <a:r>
              <a:rPr b="1" lang="en-US" sz="12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Receipt Cancel</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allows the user to correct the mistakes done in using online receipt and offline receipt. It will provide the entry fields to cancel the payment receipts only. It will show the receipt details, which was done still by particular RC Counter. This is used by the persons, who know the RC (Revenue Collection) password.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4</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Journal Entry</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Journal entry done when a consumer had any debit, credit amounts to pay .To that bill if any additional charges, electricity duty, interest on electricity duty levied on particular consumer no.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n this lccode should present in journal. If we enter consumer no corresponding name should be displayed and rest of the fields we should enter.</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t should be updated to Journal.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533520" y="457200"/>
            <a:ext cx="8229600" cy="525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5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ancellation of Journal</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I</a:t>
            </a:r>
            <a:r>
              <a:rPr b="0" lang="en-US" sz="2100" spc="-1" strike="noStrike">
                <a:solidFill>
                  <a:srgbClr val="ffffff"/>
                </a:solidFill>
                <a:latin typeface="Times New Roman"/>
                <a:ea typeface="Times New Roman"/>
              </a:rPr>
              <a:t>f we want to cancel that particular person cancels any journal. It should check lccode, voucher no should match lccode, voucher date should match lccode, voucher no and then date field is selected. Then fields we be selected into corresponding text boxes.</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journal is cancelled with field Jtcancelid=y. Now the field is cancelled from journal.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6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hange RC Password</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Every ERO is having RC Counters to receive online payments. Each RC Counter is hiving RC Code and RC Password. This sub module is allows the user to change his Password for security purpos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57200" y="457200"/>
            <a:ext cx="8381880" cy="4634640"/>
          </a:xfrm>
          <a:prstGeom prst="rect">
            <a:avLst/>
          </a:prstGeom>
          <a:solidFill>
            <a:srgbClr val="3333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nergy Billing System</a:t>
            </a:r>
            <a:r>
              <a:rPr b="0" lang="en-US" sz="4000" spc="-1" strike="noStrike">
                <a:solidFill>
                  <a:srgbClr val="ffffff"/>
                </a:solidFill>
                <a:latin typeface="Times New Roman"/>
                <a:ea typeface="Times New Roman"/>
              </a:rPr>
              <a:t>:</a:t>
            </a:r>
            <a:endParaRPr b="0" lang="en-US" sz="4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Energy Billing system is a system to maintain billing details in ERO. It captures the data related to billing and doing manipulations like calculate bill and payment receipts. </a:t>
            </a:r>
            <a:endParaRPr b="0" lang="en-US" sz="3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28600" y="762120"/>
            <a:ext cx="8534520" cy="446616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ea typeface="Times New Roman"/>
              </a:rPr>
              <a:t>   </a:t>
            </a:r>
            <a:r>
              <a:rPr b="0" lang="en-US" sz="4100" spc="-1" strike="noStrike">
                <a:solidFill>
                  <a:srgbClr val="ffffff"/>
                </a:solidFill>
                <a:latin typeface="Times New Roman"/>
                <a:ea typeface="Times New Roman"/>
              </a:rPr>
              <a:t>In this we can divide into two modules </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ea typeface="Times New Roman"/>
              </a:rPr>
              <a:t> </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1.</a:t>
            </a:r>
            <a:r>
              <a:rPr b="1" lang="en-US" sz="24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Consumer Management</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2.     Revenue Collection</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04920" y="609480"/>
            <a:ext cx="8381880" cy="464976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1.</a:t>
            </a:r>
            <a:r>
              <a:rPr b="1" lang="en-US" sz="20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Consumer Management:</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r>
              <a:rPr b="0" lang="en-US" sz="3700" spc="-1" strike="noStrike">
                <a:solidFill>
                  <a:srgbClr val="ffffff"/>
                </a:solidFill>
                <a:latin typeface="Times New Roman"/>
                <a:ea typeface="Times New Roman"/>
              </a:rPr>
              <a:t>To design front-end forms according to       consumer specifications it was like   Addition of new consumer, deletion,   modification of consumer, processing bills, journals, debit respectively. These modules deals with consumer information detail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0880" y="609480"/>
            <a:ext cx="8153640" cy="46040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2.</a:t>
            </a:r>
            <a:r>
              <a:rPr b="1" lang="en-US" sz="7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Revenue Collection:</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ea typeface="Times New Roman"/>
              </a:rPr>
              <a:t> </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r>
              <a:rPr b="0" lang="en-US" sz="3700" spc="-1" strike="noStrike">
                <a:solidFill>
                  <a:srgbClr val="ffffff"/>
                </a:solidFill>
                <a:latin typeface="Times New Roman"/>
                <a:ea typeface="Times New Roman"/>
              </a:rPr>
              <a:t>Billing is done by spot billing machines     and updated to billing database. This module deals with collection of payments through collection centers by online or offline each consumer wise.</a:t>
            </a:r>
            <a:endParaRPr b="0" lang="en-US" sz="37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0" y="-473040"/>
            <a:ext cx="9144000" cy="39636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Modu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2" name="Rectangle 22"/>
          <p:cNvSpPr/>
          <p:nvPr/>
        </p:nvSpPr>
        <p:spPr>
          <a:xfrm>
            <a:off x="0" y="90360"/>
            <a:ext cx="9144000" cy="6094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3" name="Rectangle 26"/>
          <p:cNvSpPr/>
          <p:nvPr/>
        </p:nvSpPr>
        <p:spPr>
          <a:xfrm>
            <a:off x="762120" y="304920"/>
            <a:ext cx="7772400" cy="883800"/>
          </a:xfrm>
          <a:prstGeom prst="rect">
            <a:avLst/>
          </a:prstGeom>
          <a:solidFill>
            <a:srgbClr val="3333ff"/>
          </a:solid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      </a:t>
            </a:r>
            <a:r>
              <a:rPr b="1" lang="en-US" sz="2900" spc="-1" strike="noStrike">
                <a:solidFill>
                  <a:srgbClr val="ffffff"/>
                </a:solidFill>
                <a:latin typeface="Times New Roman"/>
                <a:ea typeface="Times New Roman"/>
              </a:rPr>
              <a:t>Modules</a:t>
            </a:r>
            <a:endParaRPr b="0" lang="en-US" sz="2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4" name="Rectangle 27"/>
          <p:cNvSpPr/>
          <p:nvPr/>
        </p:nvSpPr>
        <p:spPr>
          <a:xfrm>
            <a:off x="0" y="966960"/>
            <a:ext cx="9144000" cy="6094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5" name="Rectangle 28"/>
          <p:cNvSpPr/>
          <p:nvPr/>
        </p:nvSpPr>
        <p:spPr>
          <a:xfrm>
            <a:off x="762120" y="762120"/>
            <a:ext cx="7772400" cy="853560"/>
          </a:xfrm>
          <a:prstGeom prst="rect">
            <a:avLst/>
          </a:prstGeom>
          <a:solidFill>
            <a:srgbClr val="3333ff"/>
          </a:solidFill>
          <a:ln w="0">
            <a:noFill/>
          </a:ln>
        </p:spPr>
        <p:style>
          <a:lnRef idx="0"/>
          <a:fillRef idx="0"/>
          <a:effectRef idx="0"/>
          <a:fontRef idx="minor"/>
        </p:style>
        <p:txBody>
          <a:bodyPr lIns="4572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r>
              <a:rPr b="1" lang="en-US" sz="1300" spc="-1" strike="noStrike">
                <a:solidFill>
                  <a:srgbClr val="ffffff"/>
                </a:solidFill>
                <a:latin typeface="Times New Roman"/>
                <a:ea typeface="Times New Roman"/>
              </a:rPr>
              <a:t>1.</a:t>
            </a:r>
            <a:r>
              <a:rPr b="1" lang="en-US" sz="7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onsumer Management</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56" name="Rectangle 29"/>
          <p:cNvSpPr/>
          <p:nvPr/>
        </p:nvSpPr>
        <p:spPr>
          <a:xfrm>
            <a:off x="762120" y="1452600"/>
            <a:ext cx="7772400" cy="4907520"/>
          </a:xfrm>
          <a:prstGeom prst="rect">
            <a:avLst/>
          </a:prstGeom>
          <a:solidFill>
            <a:srgbClr val="3333ff"/>
          </a:solidFill>
          <a:ln w="0">
            <a:noFill/>
          </a:ln>
        </p:spPr>
        <p:style>
          <a:lnRef idx="0"/>
          <a:fillRef idx="0"/>
          <a:effectRef idx="0"/>
          <a:fontRef idx="minor"/>
        </p:style>
        <p:txBody>
          <a:bodyPr lIns="0" rIns="0" tIns="0" bIns="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1.1</a:t>
            </a:r>
            <a:r>
              <a:rPr b="1" lang="en-US" sz="10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 New Consumer Acquisition</a:t>
            </a:r>
            <a:r>
              <a:rPr b="0" lang="en-US" sz="1900" spc="-1" strike="noStrike" u="sng">
                <a:solidFill>
                  <a:srgbClr val="ffffff"/>
                </a:solidFill>
                <a:uFillTx/>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a:t>
            </a:r>
            <a:r>
              <a:rPr b="1"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proposed</a:t>
            </a:r>
            <a:r>
              <a:rPr b="1" lang="en-US" sz="2100" spc="-1" strike="noStrike">
                <a:solidFill>
                  <a:srgbClr val="ffffff"/>
                </a:solidFill>
                <a:latin typeface="Times New Roman"/>
                <a:ea typeface="Times New Roman"/>
              </a:rPr>
              <a:t> software</a:t>
            </a:r>
            <a:r>
              <a:rPr b="0" lang="en-US" sz="2100" spc="-1" strike="noStrike">
                <a:solidFill>
                  <a:srgbClr val="ffffff"/>
                </a:solidFill>
                <a:latin typeface="Times New Roman"/>
                <a:ea typeface="Times New Roman"/>
              </a:rPr>
              <a:t> allows the end –user to add the new consumer with his personal service (meter and Deposit) details. It generates a unique consumer Identification number based on the DISCOM, Circle, division, Subdivision, Section and Distribution to which   he belongs.</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Change Requests:</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r>
              <a:rPr b="0" lang="en-US" sz="10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ystem allows the end-user to change the consumer master data like Title Transfer, Address Changes in case service shifting, Category, load, Phase, Meter and other Service related chang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533520" y="533520"/>
            <a:ext cx="8153280" cy="5395320"/>
          </a:xfrm>
          <a:prstGeom prst="rect">
            <a:avLst/>
          </a:prstGeom>
          <a:solidFill>
            <a:srgbClr val="3333ff"/>
          </a:solidFill>
          <a:ln w="0">
            <a:noFill/>
          </a:ln>
        </p:spPr>
        <p:style>
          <a:lnRef idx="0"/>
          <a:fillRef idx="0"/>
          <a:effectRef idx="0"/>
          <a:fontRef idx="minor"/>
        </p:style>
        <p:txBody>
          <a:bodyPr lIns="228600" rIns="0" tIns="0" bIns="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Consumer Account Management:</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r>
              <a:rPr b="0" lang="en-US" sz="10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maintains the entire history (metering, Billing, Collection and change information etc.) of the consumer to track his particular from services release stage to permanent dismantlement</a:t>
            </a:r>
            <a:r>
              <a:rPr b="0"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etering Functionality</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reate Meter Reading Rout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end-user to create meter-reading rout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Interfacing with Hand Held Computers (HHC) output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Basis on the billing route for the day, the consumer information is loaded in the hand held computers. The system would be capable of interfacing with HHC data for uploading metering data.</a:t>
            </a:r>
            <a:endParaRPr b="0" lang="en-US" sz="2100" spc="-1" strike="noStrike">
              <a:solidFill>
                <a:srgbClr val="ffffff"/>
              </a:solidFill>
              <a:latin typeface="Times New Roman"/>
            </a:endParaRPr>
          </a:p>
        </p:txBody>
      </p:sp>
      <p:sp>
        <p:nvSpPr>
          <p:cNvPr id="158" name="Rectangle 3"/>
          <p:cNvSpPr/>
          <p:nvPr/>
        </p:nvSpPr>
        <p:spPr>
          <a:xfrm>
            <a:off x="0" y="4116240"/>
            <a:ext cx="9144000" cy="609480"/>
          </a:xfrm>
          <a:prstGeom prst="rect">
            <a:avLst/>
          </a:prstGeom>
          <a:noFill/>
          <a:ln w="0">
            <a:noFill/>
          </a:ln>
        </p:spPr>
        <p:style>
          <a:lnRef idx="0"/>
          <a:fillRef idx="0"/>
          <a:effectRef idx="0"/>
          <a:fontRef idx="minor"/>
        </p:style>
        <p:txBody>
          <a:bodyPr lIns="2286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28600" y="457200"/>
            <a:ext cx="8610480" cy="585468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u="sng">
                <a:solidFill>
                  <a:srgbClr val="ffffff"/>
                </a:solidFill>
                <a:uFillTx/>
                <a:latin typeface="Times New Roman"/>
                <a:ea typeface="Times New Roman"/>
              </a:rPr>
              <a:t>Interface with spot metering and Billing system:</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ystem will support data down loading and uploading with handheld devices used for spot metering &amp; billing .The devices would provide information about the meter number, customer code, meter reading, and billing amount.</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anual inputs: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T</a:t>
            </a:r>
            <a:r>
              <a:rPr b="0" lang="en-US" sz="2100" spc="-1" strike="noStrike">
                <a:solidFill>
                  <a:srgbClr val="ffffff"/>
                </a:solidFill>
                <a:latin typeface="Times New Roman"/>
                <a:ea typeface="Times New Roman"/>
              </a:rPr>
              <a:t>he system would be capable of capturing meter reading data from a meter reading book for traditional Billing. System would have the flexibility of providing checks to minimize data entry error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aintain current data: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ystem would keep past metering data online for period specified by the DISCOM and electricity Regulatory Commission guidelines from time to time.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0880" y="457200"/>
            <a:ext cx="8382240" cy="5534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Metering Exception reporting: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After data entry, the system would generate an Exception Report highlighting possible inconsistencies in the metering data.</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Tracking customer Exceptions: </a:t>
            </a:r>
            <a:endParaRPr b="0" lang="en-US" sz="2100" spc="-1" strike="noStrike">
              <a:solidFill>
                <a:srgbClr val="ffffff"/>
              </a:solidFill>
              <a:latin typeface="Times New Roman"/>
            </a:endParaRPr>
          </a:p>
          <a:p>
            <a:pPr indent="457200" algn="just">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indent="457200" algn="just">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e system would be able to track customer behavior in terms of exception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ese fields are inserted into constable.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Metering Data review facility: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allows the Eros personal or other designated officials to review the metering data. In case any discrepancy is found the system will allow the data to be edited, with proper access rights and audit trails.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23:37:12Z</dcterms:created>
  <dc:creator>sri</dc:creator>
  <dc:description/>
  <dc:language>en-US</dc:language>
  <cp:lastModifiedBy>NARASIMHA</cp:lastModifiedBy>
  <dcterms:modified xsi:type="dcterms:W3CDTF">2010-07-19T06:36:11Z</dcterms:modified>
  <cp:revision>26</cp:revision>
  <dc:subject/>
  <dc:title>PowerPoint Presentation</dc:title>
</cp:coreProperties>
</file>