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EF4-59D8-4E81-84CA-60F8ACD5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8AC-0512-40F0-90A5-D8AF53E4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14C-A493-4FAB-822A-26FB7823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264-153D-40A2-86FD-DDEFEEF8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91E-B7F0-43C3-9568-F58B1BBF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6C9-222D-4DD1-A168-21F280C3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E68-909A-4763-9286-6056B5A4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648-2588-4F66-8150-7EC889B3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F8A-615E-4D5B-834D-D9CFA9C1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775-3A5A-4E78-B6D5-56FBA0FC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D4A-EA38-42DB-B2DC-5D9940B3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338-FF1D-47AF-9202-7FAF5F5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8645-6C24-4B09-AA42-35F0E27CB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21560" y="272880"/>
            <a:ext cx="45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Manufacturing Informa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ence Research &amp; Development Laboratory, Hydera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447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RISED MAINTENANCE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886200"/>
            <a:ext cx="7238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.SAI LAKSHMI (07D01A05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.AMUKTHA( 07D01A05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.UDAYALAKSHMI (07D01A05B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83280" y="1523880"/>
            <a:ext cx="2832120" cy="2725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33520" y="1523880"/>
            <a:ext cx="670536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llowing details are maint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dow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g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ro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hine downtime is calculated in days basing on breakdow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457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ACHIN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04920" y="442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7009"/>
                </a:solidFill>
                <a:latin typeface="Arial"/>
              </a:rPr>
              <a:t>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28600" y="879480"/>
          <a:ext cx="8763120" cy="521640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143000"/>
                <a:gridCol w="990360"/>
                <a:gridCol w="990720"/>
                <a:gridCol w="914400"/>
                <a:gridCol w="1066680"/>
                <a:gridCol w="838440"/>
              </a:tblGrid>
              <a:tr h="87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PROCESS</a:t>
                      </a:r>
                      <a:r>
                        <a:rPr b="0" lang="en-US" sz="20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INS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RETROFIT REINSTAL UPGRADE</a:t>
                      </a:r>
                      <a:r>
                        <a:rPr b="0" lang="en-US" sz="14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BREAK DOWN REQ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BREAK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PRE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PRE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CH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SHOP FL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SHOP FL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INCH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MAINTENANCE STA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ADMINSTR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ALL US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325520"/>
            <a:ext cx="79246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 each and every module for proper func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for proper insertion, deletion, updation and querying of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ify the functioning of Triggers, Alerts, Procedures, Cursors and Post-Queries of all the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read only attributes of a form are protected against up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check for data integrity and data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rms initiated can be modified by respective person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uthorized access of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tion of work order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600200" cy="1663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93880" y="1596960"/>
            <a:ext cx="87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92240" y="803160"/>
            <a:ext cx="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8320" y="803160"/>
            <a:ext cx="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41640" y="803160"/>
            <a:ext cx="2468520" cy="2001960"/>
            <a:chOff x="2141640" y="803160"/>
            <a:chExt cx="2468520" cy="2001960"/>
          </a:xfrm>
        </p:grpSpPr>
        <p:sp>
          <p:nvSpPr>
            <p:cNvPr id="289" name=""/>
            <p:cNvSpPr/>
            <p:nvPr/>
          </p:nvSpPr>
          <p:spPr>
            <a:xfrm>
              <a:off x="2141640" y="80316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41640" y="1097280"/>
              <a:ext cx="8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41640" y="15094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41640" y="1921680"/>
              <a:ext cx="160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41640" y="2333880"/>
              <a:ext cx="203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41640" y="2746440"/>
              <a:ext cx="24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98320" y="121608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92240" y="1392120"/>
            <a:ext cx="104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57320"/>
            <a:ext cx="15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92240" y="1038240"/>
            <a:ext cx="92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57480" y="709560"/>
            <a:ext cx="101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CHINE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41640" y="1320840"/>
            <a:ext cx="121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65480" y="1569960"/>
            <a:ext cx="108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19400" y="2112840"/>
            <a:ext cx="113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12840" y="253692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9120" y="861840"/>
            <a:ext cx="0" cy="3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22680" y="127476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30480" y="1627200"/>
            <a:ext cx="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00560" y="203976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72080" y="24526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23000" y="723960"/>
            <a:ext cx="84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u M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17280" y="1254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u Ma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83320" y="160812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u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01640" y="196056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u In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91880" y="23144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u Mi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440" y="3352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38280" y="22860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ML DIAGRAM FOR PLANT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33520" y="3487680"/>
            <a:ext cx="5057640" cy="2303640"/>
            <a:chOff x="533520" y="3487680"/>
            <a:chExt cx="5057640" cy="2303640"/>
          </a:xfrm>
        </p:grpSpPr>
        <p:sp>
          <p:nvSpPr>
            <p:cNvPr id="317" name=""/>
            <p:cNvSpPr/>
            <p:nvPr/>
          </p:nvSpPr>
          <p:spPr>
            <a:xfrm>
              <a:off x="2286000" y="38098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1480" y="518148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520" y="3809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86000" y="41911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86000" y="48006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3520" y="43434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5000" y="4062240"/>
              <a:ext cx="107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chine Detai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03680" y="4495680"/>
              <a:ext cx="1839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03680" y="5257800"/>
              <a:ext cx="18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4495680"/>
              <a:ext cx="184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200" y="388620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3200" y="39625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91400" y="3960720"/>
              <a:ext cx="108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64840" y="4552920"/>
              <a:ext cx="129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 INSTAL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22080" y="5191200"/>
              <a:ext cx="110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GRAD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38480" y="388620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72000" y="449568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97560" y="34876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nst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98040" y="411480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rin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03640" y="487692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pgr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438280" y="312408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ML DIAGRAM FOR MACHIN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38280" y="22860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ML DIAGRAM FOR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914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6240" y="668160"/>
            <a:ext cx="109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93880" y="1442880"/>
            <a:ext cx="87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2120" y="873000"/>
            <a:ext cx="0" cy="63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10652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28680" y="202896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33720" y="27432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93672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190512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259092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350532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125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18360" y="1065240"/>
            <a:ext cx="109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16765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KDN MAINT 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74320" y="78588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KDN MAINT 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90680" y="2438280"/>
            <a:ext cx="146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V. MAINT S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90680" y="33526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V. 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92920" y="6681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bm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12040" y="160020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bmr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8880" y="236232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m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2760" y="320040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mr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811160" y="5153040"/>
          <a:ext cx="679932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5153040"/>
                    <a:ext cx="67993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1760400" y="3733920"/>
          <a:ext cx="6850080" cy="16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0" y="3733920"/>
                    <a:ext cx="68500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562120" y="162000"/>
          <a:ext cx="559116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62120" y="162000"/>
                    <a:ext cx="5591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9" name="" descr=""/>
          <p:cNvPicPr/>
          <p:nvPr/>
        </p:nvPicPr>
        <p:blipFill>
          <a:blip r:embed="rId7"/>
          <a:stretch/>
        </p:blipFill>
        <p:spPr>
          <a:xfrm>
            <a:off x="2587680" y="685800"/>
            <a:ext cx="5565600" cy="3206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70" name=""/>
          <p:cNvSpPr/>
          <p:nvPr/>
        </p:nvSpPr>
        <p:spPr>
          <a:xfrm>
            <a:off x="1050840" y="2017800"/>
            <a:ext cx="108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3760" y="2635200"/>
            <a:ext cx="1081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0960" y="4311720"/>
            <a:ext cx="1194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0920" y="5715000"/>
            <a:ext cx="1194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INS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8"/>
          <a:stretch/>
        </p:blipFill>
        <p:spPr>
          <a:xfrm>
            <a:off x="304920" y="8380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04920" y="304920"/>
            <a:ext cx="167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bd"/>
                </a:solidFill>
                <a:latin typeface="Arial"/>
              </a:rPr>
              <a:t>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858000" cy="4724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78" name=""/>
          <p:cNvSpPr/>
          <p:nvPr/>
        </p:nvSpPr>
        <p:spPr>
          <a:xfrm>
            <a:off x="2895480" y="5530680"/>
            <a:ext cx="259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ILUR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rcRect l="0" t="3263" r="0" b="0"/>
          <a:stretch/>
        </p:blipFill>
        <p:spPr>
          <a:xfrm>
            <a:off x="1371600" y="343080"/>
            <a:ext cx="7620120" cy="33908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rcRect l="0" t="2873" r="0" b="0"/>
          <a:stretch/>
        </p:blipFill>
        <p:spPr>
          <a:xfrm>
            <a:off x="1371600" y="3448080"/>
            <a:ext cx="7620120" cy="32194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349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rcRect l="0" t="2526" r="0" b="0"/>
          <a:stretch/>
        </p:blipFill>
        <p:spPr>
          <a:xfrm>
            <a:off x="457200" y="399960"/>
            <a:ext cx="7620120" cy="36766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rcRect l="0" t="3163" r="0" b="0"/>
          <a:stretch/>
        </p:blipFill>
        <p:spPr>
          <a:xfrm>
            <a:off x="457200" y="3867120"/>
            <a:ext cx="7620120" cy="29145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81680" y="259092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rcRect l="0" t="3030" r="0" b="0"/>
          <a:stretch/>
        </p:blipFill>
        <p:spPr>
          <a:xfrm>
            <a:off x="762120" y="419040"/>
            <a:ext cx="7619760" cy="36576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rcRect l="0" t="2810" r="0" b="0"/>
          <a:stretch/>
        </p:blipFill>
        <p:spPr>
          <a:xfrm>
            <a:off x="762120" y="3448080"/>
            <a:ext cx="7619760" cy="32958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380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RE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53020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UPGRA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738440" cy="1827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8305560" cy="38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hine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breakdown requi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ive maintenance planning and schedu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ares and invent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ult analysis Knowledge 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572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ject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64772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609480" y="152280"/>
          <a:ext cx="693432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280"/>
                    <a:ext cx="69343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164772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17400" y="3352680"/>
          <a:ext cx="6850080" cy="346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400" y="3352680"/>
                    <a:ext cx="685008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6629400" y="58197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BREAKDOWN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318960"/>
            <a:ext cx="1828800" cy="36828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bd"/>
                </a:solidFill>
                <a:latin typeface="Arial"/>
              </a:rPr>
              <a:t>RE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3505320"/>
            <a:ext cx="1143000" cy="33732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6553080" cy="3429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64772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4772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0496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0496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76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PREVENTIVE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685800" y="190440"/>
            <a:ext cx="655308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09480" y="762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520" y="1600200"/>
            <a:ext cx="8001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ALLATION, REINSTALLATION, UPGRADATION, RETROFIT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EAKDOWN REQUISITIONS, BREAKDOWN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ENTIVE PLAN AND PREVENTIVE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 HI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EAKDOWN HISTORY   - YEAR WISE AND MONTH 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ENTIVE HISTORY   -   YEARWISE AND MONTH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ILURE ANALYSIS KNOWLEDGE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1872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91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2165400"/>
            <a:ext cx="8458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rieved 265 records of machine details from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rieved nearly 2000 spares records from 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down maintenance data for year 2003 is 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o th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ive maintenance data for years 2001-2003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400800" y="531720"/>
            <a:ext cx="19335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762120" y="685800"/>
            <a:ext cx="7924680" cy="57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nt access to machine history and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machine downt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66ff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analysis knowledge base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related  problem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ic generation of control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66ff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hine downtime helps to know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ture of the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7086600" y="838080"/>
            <a:ext cx="1455840" cy="1800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685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1676520"/>
            <a:ext cx="7010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, Developed and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loyment of system at user’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ining has been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is presently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7485120" y="457200"/>
          <a:ext cx="11253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5120" y="457200"/>
                    <a:ext cx="1125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5486400"/>
            <a:ext cx="5867280" cy="68580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T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M/C param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505320"/>
            <a:ext cx="441936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EAKDOWN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4343400"/>
            <a:ext cx="525780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 REINSTALL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GRADATION, RETROF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514600"/>
            <a:ext cx="3581280" cy="685800"/>
          </a:xfrm>
          <a:prstGeom prst="rect">
            <a:avLst/>
          </a:prstGeom>
          <a:solidFill>
            <a:srgbClr val="88a3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ENTIVE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676520"/>
            <a:ext cx="205740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/C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57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ules in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228600"/>
            <a:ext cx="3657600" cy="419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MMS MENU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112400" y="1981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026800" y="1981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627000" y="1981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54080" y="1981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799240" y="1981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27400" y="1981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8520" y="7430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914400"/>
            <a:ext cx="131112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814400"/>
            <a:ext cx="1067040" cy="390060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AY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CHINE 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 / C 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ENDOR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CHINE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HINE CHECK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P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MON SP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814400"/>
            <a:ext cx="1371600" cy="207180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STALLATION &amp; COMMIS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INSTAL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PGRA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TROFI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1814400"/>
            <a:ext cx="1067040" cy="230040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REAKD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SI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REAKD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SITION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REAK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ILURE ANALYSIS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57880" y="1814400"/>
            <a:ext cx="1028520" cy="91440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EVENTIVE P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EVENTIVE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1814400"/>
            <a:ext cx="1295640" cy="148608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CHINE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REAKDOWN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EVENTIVE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53360" y="1814400"/>
            <a:ext cx="1104840" cy="153828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TROL REGI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REAK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EV.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EV.CH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440" y="914400"/>
            <a:ext cx="113688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914400"/>
            <a:ext cx="131112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914400"/>
            <a:ext cx="175284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EAK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914400"/>
            <a:ext cx="175248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VEN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914400"/>
            <a:ext cx="121932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458200" y="914400"/>
            <a:ext cx="68580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04920"/>
            <a:ext cx="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1204920"/>
            <a:ext cx="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1204920"/>
            <a:ext cx="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04920"/>
            <a:ext cx="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204920"/>
            <a:ext cx="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1204920"/>
            <a:ext cx="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152280"/>
            <a:ext cx="901836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21932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ine Requisition, action, breakdown requisition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res and inventor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 hi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 downtime calc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ult analysis knowledge based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urement Pl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ed security  by assigning roles to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atures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867280" y="289548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3048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56600" y="228600"/>
            <a:ext cx="47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 OF ACTIVITIES IN CMM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1066680"/>
            <a:ext cx="350496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133720"/>
            <a:ext cx="2133720" cy="2057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GRA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F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590920"/>
            <a:ext cx="243828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ES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5943600"/>
            <a:ext cx="24382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3352680"/>
            <a:ext cx="152388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N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4800600"/>
            <a:ext cx="24382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2286000"/>
            <a:ext cx="266724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ENTIVE M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EAKDOWN M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334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380988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3657600"/>
            <a:ext cx="266724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URE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AND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5334120"/>
            <a:ext cx="19051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114800"/>
            <a:ext cx="2667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733920"/>
            <a:ext cx="2133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200400"/>
            <a:ext cx="2133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590920"/>
            <a:ext cx="2133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2743200"/>
            <a:ext cx="2667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129528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12952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12952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129528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47242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8954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58128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5053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3400" y="149868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3440" y="303696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9040" y="425592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3240" y="539892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94920" y="165096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29720" y="242712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90160" y="325116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75960" y="478944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24040" y="22748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905120"/>
            <a:ext cx="15242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057400"/>
            <a:ext cx="1905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205740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99440" y="165096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NEW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99072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 type,  Category, Make, Model, Status,  Procurement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tion details,  Installation dates,  Electronics Details,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ails,  Mechanical Details, CNC Details, Oil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286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RE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89548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nges in Location,Bay, Sequence, Power Panel no, Opera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733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UP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43434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urement details and upgraded items, type, quant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876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RETRO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57676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urement details and retrofit items,  type,  quant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086600" y="53341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981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0280" y="4648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0280" y="5791320"/>
            <a:ext cx="0" cy="342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2971800"/>
            <a:ext cx="1028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886200"/>
            <a:ext cx="12571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0280" y="4114800"/>
            <a:ext cx="0" cy="34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0280" y="3009960"/>
            <a:ext cx="0" cy="571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640080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62520" y="1600200"/>
            <a:ext cx="0" cy="514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6743880"/>
            <a:ext cx="3124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2171880"/>
            <a:ext cx="0" cy="571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259092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54760" y="379728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3124080"/>
            <a:ext cx="0" cy="571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4229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21718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1040" y="5562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4971960"/>
            <a:ext cx="761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5400" y="2971800"/>
            <a:ext cx="495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5181480"/>
            <a:ext cx="57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160020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1600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297180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10480" y="396252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39625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480" y="2514600"/>
            <a:ext cx="1828800" cy="80028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RECORD IN CONTROL REGISTER &amp; ALLOT CONTRO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04920"/>
            <a:ext cx="1371600" cy="799920"/>
          </a:xfrm>
          <a:prstGeom prst="flowChartDocumen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RE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2743200"/>
            <a:ext cx="1143000" cy="571680"/>
          </a:xfrm>
          <a:prstGeom prst="flowChartDocumen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3657600"/>
            <a:ext cx="1257480" cy="685800"/>
          </a:xfrm>
          <a:prstGeom prst="flowChartDocumen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1. CONT.R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4724280"/>
            <a:ext cx="1028880" cy="6858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HAND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REPA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6019920"/>
            <a:ext cx="1371600" cy="57132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CONDEM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THE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4800600"/>
            <a:ext cx="1143000" cy="1066680"/>
          </a:xfrm>
          <a:prstGeom prst="flowChartDocumen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1.CONT.RE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2.M.S.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3.BREAK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4.HISTORY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C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LE OF CMMS S/W IN BREAKDOWN MAINTENANCE     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143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143000"/>
            <a:ext cx="0" cy="53352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1447920" cy="914400"/>
          </a:xfrm>
          <a:prstGeom prst="flowChartDocument">
            <a:avLst/>
          </a:prstGeom>
          <a:solidFill>
            <a:srgbClr val="43d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1ee6c"/>
                </a:solidFill>
                <a:latin typeface="Arial"/>
              </a:rPr>
              <a:t>ONLINE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RE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1981080"/>
            <a:ext cx="762120" cy="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752480"/>
            <a:ext cx="1486080" cy="457200"/>
          </a:xfrm>
          <a:prstGeom prst="rect">
            <a:avLst/>
          </a:prstGeom>
          <a:solidFill>
            <a:srgbClr val="43db5c"/>
          </a:solidFill>
          <a:ln w="9360">
            <a:solidFill>
              <a:srgbClr val="43db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M/C STATU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0280" y="2000160"/>
            <a:ext cx="0" cy="45720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714680"/>
            <a:ext cx="1257480" cy="4572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RE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160" y="2438280"/>
            <a:ext cx="37339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914400"/>
            <a:ext cx="198108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43db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T AVAILABLE FOR SCHEDU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895480" y="1447920"/>
            <a:ext cx="0" cy="30456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562720"/>
            <a:ext cx="5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0280" y="3029040"/>
            <a:ext cx="0" cy="57132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240" y="2476440"/>
            <a:ext cx="3752640" cy="933480"/>
          </a:xfrm>
          <a:prstGeom prst="rect">
            <a:avLst/>
          </a:prstGeom>
          <a:solidFill>
            <a:srgbClr val="43d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OFTWARE GENERATES CONTROL NO AUTOMATICALLY AND DETAILS ARE ENTERED INTO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3505320"/>
            <a:ext cx="1295280" cy="1371600"/>
          </a:xfrm>
          <a:prstGeom prst="can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886200"/>
            <a:ext cx="1257120" cy="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0280" y="4133880"/>
            <a:ext cx="0" cy="34272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5029200"/>
            <a:ext cx="1447920" cy="45720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SK TE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724280"/>
            <a:ext cx="685800" cy="30492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762120"/>
            <a:ext cx="1828800" cy="45720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CHINE /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ARES LOO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rot="2643600">
            <a:off x="5942880" y="1142640"/>
            <a:ext cx="380880" cy="881280"/>
          </a:xfrm>
          <a:prstGeom prst="upArrow">
            <a:avLst>
              <a:gd name="adj1" fmla="val 28963"/>
              <a:gd name="adj2" fmla="val 1690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00280" y="1600200"/>
            <a:ext cx="4533840" cy="5143680"/>
            <a:chOff x="800280" y="1600200"/>
            <a:chExt cx="4533840" cy="5143680"/>
          </a:xfrm>
        </p:grpSpPr>
        <p:sp>
          <p:nvSpPr>
            <p:cNvPr id="196" name=""/>
            <p:cNvSpPr/>
            <p:nvPr/>
          </p:nvSpPr>
          <p:spPr>
            <a:xfrm>
              <a:off x="800280" y="4667400"/>
              <a:ext cx="0" cy="43812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0280" y="5676840"/>
              <a:ext cx="0" cy="43812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6400800"/>
              <a:ext cx="0" cy="30492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8080" y="6743880"/>
              <a:ext cx="3124440" cy="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962520" y="1600200"/>
              <a:ext cx="0" cy="514368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62520" y="1600200"/>
              <a:ext cx="1371600" cy="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34120" y="1600200"/>
              <a:ext cx="0" cy="15228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28600" y="4495680"/>
            <a:ext cx="1257480" cy="34308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ALLO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5105520"/>
            <a:ext cx="1371600" cy="6858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CARRY OUT PRELIMINARY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CHE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6095880"/>
            <a:ext cx="1371600" cy="4572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ASS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480" y="3619440"/>
            <a:ext cx="1638000" cy="49536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STUDY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1371600"/>
            <a:ext cx="1828800" cy="45720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EAKDOWN SP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2590920"/>
            <a:ext cx="0" cy="68580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638680" y="2171880"/>
            <a:ext cx="1600200" cy="571320"/>
            <a:chOff x="5638680" y="2171880"/>
            <a:chExt cx="1600200" cy="571320"/>
          </a:xfrm>
        </p:grpSpPr>
        <p:sp>
          <p:nvSpPr>
            <p:cNvPr id="210" name=""/>
            <p:cNvSpPr/>
            <p:nvPr/>
          </p:nvSpPr>
          <p:spPr>
            <a:xfrm>
              <a:off x="7238880" y="2171880"/>
              <a:ext cx="0" cy="57132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38680" y="2171880"/>
              <a:ext cx="1600200" cy="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305240" y="1743120"/>
            <a:ext cx="2057400" cy="914400"/>
          </a:xfrm>
          <a:prstGeom prst="flowChartDecision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IN H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COMPLIANCESP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2890200">
            <a:off x="6379200" y="1419480"/>
            <a:ext cx="317520" cy="2134080"/>
          </a:xfrm>
          <a:prstGeom prst="upArrow">
            <a:avLst>
              <a:gd name="adj1" fmla="val 35435"/>
              <a:gd name="adj2" fmla="val 15299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3733920"/>
            <a:ext cx="1828800" cy="4572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RECORD WORK AND REASON FOR 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3505320"/>
            <a:ext cx="259056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72400" y="4419720"/>
            <a:ext cx="1295280" cy="2133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991040" y="2971800"/>
            <a:ext cx="2247840" cy="3060720"/>
            <a:chOff x="4991040" y="2971800"/>
            <a:chExt cx="2247840" cy="3060720"/>
          </a:xfrm>
        </p:grpSpPr>
        <p:grpSp>
          <p:nvGrpSpPr>
            <p:cNvPr id="218" name=""/>
            <p:cNvGrpSpPr/>
            <p:nvPr/>
          </p:nvGrpSpPr>
          <p:grpSpPr>
            <a:xfrm>
              <a:off x="5562720" y="2971800"/>
              <a:ext cx="1676160" cy="2000160"/>
              <a:chOff x="5562720" y="2971800"/>
              <a:chExt cx="1676160" cy="2000160"/>
            </a:xfrm>
          </p:grpSpPr>
          <p:sp>
            <p:nvSpPr>
              <p:cNvPr id="219" name=""/>
              <p:cNvSpPr/>
              <p:nvPr/>
            </p:nvSpPr>
            <p:spPr>
              <a:xfrm>
                <a:off x="7238880" y="3124080"/>
                <a:ext cx="0" cy="570960"/>
              </a:xfrm>
              <a:prstGeom prst="line">
                <a:avLst/>
              </a:prstGeom>
              <a:ln w="28440">
                <a:solidFill>
                  <a:srgbClr val="43db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238880" y="4228920"/>
                <a:ext cx="0" cy="456840"/>
              </a:xfrm>
              <a:prstGeom prst="line">
                <a:avLst/>
              </a:prstGeom>
              <a:ln w="28440">
                <a:solidFill>
                  <a:srgbClr val="43db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562720" y="4971960"/>
                <a:ext cx="761760" cy="0"/>
              </a:xfrm>
              <a:prstGeom prst="line">
                <a:avLst/>
              </a:prstGeom>
              <a:ln w="28440">
                <a:solidFill>
                  <a:srgbClr val="43db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05400" y="2971800"/>
                <a:ext cx="495000" cy="0"/>
              </a:xfrm>
              <a:prstGeom prst="line">
                <a:avLst/>
              </a:prstGeom>
              <a:ln w="9360">
                <a:solidFill>
                  <a:srgbClr val="43db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24480" y="2971800"/>
                <a:ext cx="0" cy="1981080"/>
              </a:xfrm>
              <a:prstGeom prst="line">
                <a:avLst/>
              </a:prstGeom>
              <a:ln w="28440">
                <a:solidFill>
                  <a:srgbClr val="43db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991040" y="5575320"/>
              <a:ext cx="0" cy="45720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54760" y="3809880"/>
              <a:ext cx="0" cy="68580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114800" y="3276720"/>
            <a:ext cx="1828800" cy="9144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a7e"/>
                </a:solidFill>
                <a:latin typeface="Arial"/>
              </a:rPr>
              <a:t>PURCHASE SPARES OUTSIDE CONTRACT/ SERVICES, UPGRADE MACH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4495680"/>
            <a:ext cx="2133360" cy="1067040"/>
          </a:xfrm>
          <a:prstGeom prst="flowChartDecision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POS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REPAIR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UPGRA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16114800">
            <a:off x="5029200" y="2895480"/>
            <a:ext cx="380880" cy="2819520"/>
          </a:xfrm>
          <a:prstGeom prst="upArrow">
            <a:avLst>
              <a:gd name="adj1" fmla="val 25167"/>
              <a:gd name="adj2" fmla="val 1412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2743200"/>
            <a:ext cx="1486080" cy="4572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CARRY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REPAIR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UPGR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3733920"/>
            <a:ext cx="1905120" cy="609480"/>
          </a:xfrm>
          <a:prstGeom prst="rect">
            <a:avLst/>
          </a:prstGeom>
          <a:solidFill>
            <a:srgbClr val="43d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ER RESONS FOR FAILURE AND ACTION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rot="19255200">
            <a:off x="4676400" y="701640"/>
            <a:ext cx="437040" cy="5789880"/>
          </a:xfrm>
          <a:prstGeom prst="upArrow">
            <a:avLst>
              <a:gd name="adj1" fmla="val 25167"/>
              <a:gd name="adj2" fmla="val 2527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914400"/>
            <a:ext cx="1981080" cy="533520"/>
          </a:xfrm>
          <a:prstGeom prst="rect">
            <a:avLst/>
          </a:prstGeom>
          <a:solidFill>
            <a:srgbClr val="43db5c"/>
          </a:solidFill>
          <a:ln w="9360">
            <a:solidFill>
              <a:srgbClr val="43db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US =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CHEDU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6324480"/>
            <a:ext cx="457200" cy="4572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5867280"/>
            <a:ext cx="0" cy="45720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77120" y="5715000"/>
            <a:ext cx="1218960" cy="45720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52280"/>
            <a:ext cx="906768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3 -0.03519 C 0.03455 -0.03704 0.04844 -0.03866 0.05417 -0.03519 C 0.0599 -0.03172 0.05903 -0.01875 0.05556 -0.01482 C 0.05208 -0.01088 0.03333 -0.01413 0.03333 -0.01112 C 0.03333 -0.00811 0.05434 -0.00209 0.05556 0.0037 C 0.05677 0.00949 0.04948 0.02476 0.04028 0.02407 C 0.03108 0.02337 0.01545 0.01157 5.55112E-017 4.81481E-006 E">
                                      <p:cBhvr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flipH="1">
            <a:off x="1599840" y="1143000"/>
            <a:ext cx="1257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1143000"/>
            <a:ext cx="12571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2870280"/>
            <a:ext cx="1828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3200400"/>
            <a:ext cx="0" cy="34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304812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3772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4673520"/>
            <a:ext cx="0" cy="34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54280" y="53341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5257800"/>
            <a:ext cx="1485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92440" y="1981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1282680"/>
            <a:ext cx="0" cy="34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2514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3200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838080"/>
            <a:ext cx="914400" cy="609840"/>
          </a:xfrm>
          <a:prstGeom prst="flowChartDocumen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762120"/>
            <a:ext cx="1257480" cy="685800"/>
          </a:xfrm>
          <a:prstGeom prst="flowChartDocumen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654280"/>
            <a:ext cx="1371600" cy="34308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19240" y="4267080"/>
            <a:ext cx="1447920" cy="53352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RY 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7400" y="5791320"/>
            <a:ext cx="1371600" cy="6094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D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3809880"/>
            <a:ext cx="1714680" cy="685800"/>
          </a:xfrm>
          <a:prstGeom prst="flowChartDocumen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V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INTENANC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5029200"/>
            <a:ext cx="1486080" cy="685800"/>
          </a:xfrm>
          <a:prstGeom prst="flowChartDocumen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.CHECK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MAINT.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71880" y="2438280"/>
            <a:ext cx="990360" cy="914400"/>
          </a:xfrm>
          <a:prstGeom prst="flowChartDecision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3556080"/>
            <a:ext cx="1371600" cy="53316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1638360"/>
            <a:ext cx="1486080" cy="57132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838080"/>
            <a:ext cx="1257480" cy="57168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INT.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5029200"/>
            <a:ext cx="1371600" cy="57168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91320" y="1523880"/>
            <a:ext cx="1257120" cy="57168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VENTIVE MAINT 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rot="6158400">
            <a:off x="4484880" y="419040"/>
            <a:ext cx="317520" cy="2438280"/>
          </a:xfrm>
          <a:prstGeom prst="upArrow">
            <a:avLst>
              <a:gd name="adj1" fmla="val 35435"/>
              <a:gd name="adj2" fmla="val 1748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rot="13777200">
            <a:off x="7179840" y="972000"/>
            <a:ext cx="273240" cy="919080"/>
          </a:xfrm>
          <a:prstGeom prst="upArrow">
            <a:avLst>
              <a:gd name="adj1" fmla="val 35435"/>
              <a:gd name="adj2" fmla="val 7656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238880" y="457200"/>
            <a:ext cx="148608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SHOP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ON PREV M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62640" y="6095880"/>
            <a:ext cx="571680" cy="15264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34320" y="601992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OFTWARE ACTIVITY/ FAC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62640" y="6400800"/>
            <a:ext cx="571680" cy="152280"/>
          </a:xfrm>
          <a:prstGeom prst="rect">
            <a:avLst/>
          </a:prstGeom>
          <a:solidFill>
            <a:srgbClr val="f5f5a9"/>
          </a:solidFill>
          <a:ln w="9360">
            <a:solidFill>
              <a:srgbClr val="f5f5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6324480"/>
            <a:ext cx="17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INTENANCE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20" y="3049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LE OF CMMS S/W IN PREVENTIVE MAINTENA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6:52:47Z</dcterms:created>
  <dc:creator>drdl</dc:creator>
  <dc:description/>
  <dc:language>en-US</dc:language>
  <cp:lastModifiedBy>HARI OM</cp:lastModifiedBy>
  <dcterms:modified xsi:type="dcterms:W3CDTF">2011-03-31T21:11:30Z</dcterms:modified>
  <cp:revision>159</cp:revision>
  <dc:subject/>
  <dc:title>PLANT MANAGEMENT SYSTEM </dc:title>
</cp:coreProperties>
</file>