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B168-101B-4E46-9303-11999FB0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E74F-33E1-4623-B653-F77ADFE6AC6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906-8A57-4907-B89E-8DA4F974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F87-24C7-4AB9-AC20-7CEAD984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B64-39BF-4AA6-9E0E-EA2C4C96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D65-6F4D-4C2B-93EE-31A561CB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71CD-0BE5-42BD-B085-55328E76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3DDF-ACEF-4A1C-92FF-18ECB4B5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1983-AD5F-4245-9460-9CAA7A7D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AB9E-3E38-4FAB-8D5F-B8AFA5FB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63FD-72D8-4FB1-A9F3-E9B25B77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7238-0881-4A24-8111-22601D82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CD5B-7635-4522-977B-13A1D6C3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551-36DA-42C3-A0EA-18A7CA78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FF6A-8A68-4910-85FD-C745752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B8F8-7630-485B-8FEC-8F80208E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CCE5-45FF-4852-8925-DEED1268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91DA-A97E-4C35-B8BE-D5B3CBC2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1CE0-A5CF-4EF3-A4B5-C511FFB0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178A-5D72-48A5-924E-613A9039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D35E-055B-448D-9E02-91D6715B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8E16-C371-481D-8DB2-317B2D19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AA30-99D4-43EA-BA99-288BE850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2FC9-C290-43D8-A06C-7A48F75B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AAB-21AA-477E-8485-8E4F008F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3EA22-DEA2-46B5-B793-B0E1152D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2FC39-DD50-4E08-ADFD-7DA2269B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234B-8D14-47F3-819A-1471A5BD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54BC-7CBD-407F-A4CB-7E01F904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10CFF-91AF-40A1-8A07-78859914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66A8-9F4D-483F-9B0E-AC326287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9444-42AB-4C84-8AC5-DF9CDFBB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18617-640C-49E1-85FA-77909E52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D2077-634A-4910-B7CE-D68FEDE3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B9786-BAA4-4C4A-BA64-AFA1C372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E24-2748-45C1-8345-27B80F2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1EC5-F2B8-46CB-8749-B5F4B8F7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502FA-0515-4FFD-A61E-157F5653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664E3-5BF7-47A4-A318-FF133FC3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8E25-8B26-4AF3-B02E-69A0F709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39991-17A9-41DB-A76B-27166B4E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C6C7-73F7-4A5A-B1B3-B19CCA05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20B5F-327E-4D20-B220-D13181CF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126F-F230-4D2E-A953-10C27EA1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278F-9AF6-4AAA-9C1E-5026660C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5B383-9D61-46F3-BEF6-0CDD648F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F15-37B0-4EDD-AB1B-FE0B0E95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01D05-EA71-4E87-A316-EEA0B98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BACD-C7C5-4DAA-A487-02E0EEE6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F497-F10C-4E3B-AC1E-D6D4FA2B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401B1-367A-4297-9441-DCBD3110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0F284-5882-48B7-B4FA-C57CC457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DFFCE-EF76-450E-A5F0-B959A689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9EED-4279-40E8-82E6-02254E74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9C18-2CD1-48AB-B43D-2F84BD10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A9C9F-89DA-478F-B5F6-C3684BB8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3A271-C055-4925-A722-6E946E6A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46D-EF8C-40C5-839E-0AF2F3D1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5820-B425-494B-BE00-862A31EC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A5F70-1F52-4B26-A04C-0F6495B4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70139-0DF7-4B57-A016-D7819699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75228-7F17-43A9-AFDB-905F9348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46D44-4704-40C4-B219-4D95FCD6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9AC83-5188-40A4-96A0-99BE4F91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41BEB-28AC-4AFD-807F-94FD3CA5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74726-CB54-4F1E-A28F-E84504CC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68D8B-3133-4F31-ABC7-6668C54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BA2AC-3A14-4556-88F9-610703DE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598-6586-4417-8B18-16875846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7ADEE-15D7-4C6E-B4D4-F1B7C72D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5807A-2C19-4986-9335-3D1FE178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D9B9C-3531-4B3F-8D38-4F164C9E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2CDF0-357A-44E9-B5D4-E4FBA74F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173C2-A176-4B43-B08D-B14D433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1ED59-E625-4C58-A319-FF462EAC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16121-A5F4-4CBB-837B-874AE65F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493FC-7F16-4807-8053-D7392D00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1378C-D16C-4D12-A6AC-3E95A1E8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F49D0-800E-4898-9282-FDB738EC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142-7095-4876-92EA-52B31F3C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7E14D-5CD2-441C-A34F-A73518C4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C9FB4-283B-430E-AC0B-57C4346C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919B4-CD91-4F8B-A8DE-59178D88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47D5-447A-41B5-B6CC-D108C633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33310-C4D7-491A-A439-2DCAC3C5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C7E-755A-4612-B2E6-CCA0768E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EDC4-9614-4D57-ABB6-B50B532B2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E55E-8240-4014-B616-5791185B9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4020-1E29-410B-A6C3-2938F6CACA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B4BE-2165-4205-9713-04C359F8EE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4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D15A-E9D2-4FCC-A18F-B3B78D84F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420C-C826-45F3-96EE-FC46E9E08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5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5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6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1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D296-6AA8-490C-8A41-BDE97495D4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SCIENT ENGINEERING COLLEGE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PARTMEN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ORMATION TECHN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-Tech ¾   SEM I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D traffic signals which controls traffic as well as speed of the vehicles using senso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8" name="Picture 4" descr="LED traffic lights in Örnsköldsvik, Sweden."/>
          <p:cNvPicPr/>
          <p:nvPr/>
        </p:nvPicPr>
        <p:blipFill>
          <a:blip r:embed="rId1"/>
          <a:stretch/>
        </p:blipFill>
        <p:spPr>
          <a:xfrm>
            <a:off x="838080" y="27432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99"/>
                </a:solidFill>
                <a:latin typeface="Script MT Bold"/>
              </a:rPr>
              <a:t>   </a:t>
            </a:r>
            <a:r>
              <a:rPr b="0" i="1" lang="en-US" sz="4700" spc="-1" strike="noStrike">
                <a:solidFill>
                  <a:srgbClr val="000099"/>
                </a:solidFill>
                <a:latin typeface="Script MT Bold"/>
              </a:rPr>
              <a:t>Vote Of Thanks</a:t>
            </a:r>
            <a:br>
              <a:rPr sz="3500"/>
            </a:br>
            <a:endParaRPr b="1" lang="en-US" sz="4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aiandra GD"/>
              </a:rPr>
              <a:t>We are very much thankful to our guide and the supporting staff members for helping us to complete our project that’s free of erro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aiandra GD"/>
              </a:rPr>
              <a:t>We have come out with immense satisfaction that helped us to discover something special in us which would not have been possible without this projec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WordArt 5"/>
          <p:cNvSpPr txBox="1"/>
          <p:nvPr/>
        </p:nvSpPr>
        <p:spPr>
          <a:xfrm>
            <a:off x="1295280" y="1981080"/>
            <a:ext cx="6324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Pristina"/>
              </a:rPr>
              <a:t>Thank U :-)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Pristina"/>
              <a:ea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ff"/>
                </a:solidFill>
                <a:latin typeface="Copperplate Gothic Bold"/>
              </a:rPr>
              <a:t>TRAFFIC  SIGNAL  MANAGEMEN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ffic Signal Management is the design of  a traffic signal which controls the traff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ject “Traffic Signal Management” facilitates  easy control of heavy traffic which uses three lights :Red, Yellow and Gre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lights used to indicate the signaling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flashing RED light indicates ST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ELLOW indicates BE READY and last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REEN  indicates G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6" name="Picture 4" descr="A demonstration of a traffic light, showing Red, for stop Yellow, (stop ahead) for slow down  and Green for go."/>
          <p:cNvPicPr/>
          <p:nvPr/>
        </p:nvPicPr>
        <p:blipFill>
          <a:blip r:embed="rId1"/>
          <a:stretch/>
        </p:blipFill>
        <p:spPr>
          <a:xfrm>
            <a:off x="1676520" y="3200400"/>
            <a:ext cx="518148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s changes automatically at regular intervals of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ask is done by using separate variables for each l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ly, RED light appears for 21 seconds ie, it appears from count equal to 25 to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when count becomes 3 RED automatically changes to YELLOW  and it glows for 4 seconds i.e, up to count becomes 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en count becomes 0,light changes automatically to GREEN and it glows for 25 second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s process is continued for easy flow of traffi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Pristina"/>
              </a:rPr>
              <a:t>Green signal</a:t>
            </a:r>
            <a:endParaRPr b="1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1" name="Picture 4" descr="green"/>
          <p:cNvPicPr/>
          <p:nvPr/>
        </p:nvPicPr>
        <p:blipFill>
          <a:blip r:embed="rId1"/>
          <a:stretch/>
        </p:blipFill>
        <p:spPr>
          <a:xfrm>
            <a:off x="1219320" y="1170000"/>
            <a:ext cx="7238880" cy="568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main crux of this project is to reduce the traffic jams at heavy traffic junction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ights glowing at regular intervals of time facilitates easy flow and control of the traffi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dvantage for people crossing roads through pedestrian crossing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e can also improve this project by adding additional features lik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destrian crossing light with loudspeaker for blin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6" name="Picture 6" descr="Pedestrian crossing light with loudspeaker for the blind."/>
          <p:cNvPicPr/>
          <p:nvPr/>
        </p:nvPicPr>
        <p:blipFill>
          <a:blip r:embed="rId1"/>
          <a:stretch/>
        </p:blipFill>
        <p:spPr>
          <a:xfrm>
            <a:off x="4572000" y="4572000"/>
            <a:ext cx="2857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4:10:07Z</dcterms:created>
  <dc:creator>rakesh</dc:creator>
  <dc:description/>
  <dc:language>en-US</dc:language>
  <cp:lastModifiedBy>Brigade</cp:lastModifiedBy>
  <dcterms:modified xsi:type="dcterms:W3CDTF">2011-09-05T18:54:01Z</dcterms:modified>
  <cp:revision>33</cp:revision>
  <dc:subject/>
  <dc:title>MVSR ENGINEERING COLLEGE</dc:title>
</cp:coreProperties>
</file>